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22D0-5CE7-48C1-B2B3-DF4AE38B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E4D4-2A29-4109-8F59-9CBFA4DF4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373-0DC5-466C-A3EB-355DA8DCE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B5E-9962-459C-AA71-40683B297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231-7C05-4706-87B0-4EE141DFE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E8B0-0E82-4A1C-A091-BACB708BF8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81A-46EB-44FE-AC73-E7616FBD2C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EC6-F68F-4086-9A03-BB131D687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33FB-F2DC-4971-A82D-37AE62ABC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F9EF-6AFD-4C68-AD90-B0FDCF48F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6CB4-D659-40A0-BB8A-E289D56E9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0525-DF42-44BC-A0DD-8D43B77D33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6B5F-EACB-460A-A602-E094A8E5A7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A443-0ED0-48F9-AEC2-1D834B4A75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894B-850D-44E7-A582-3A2A303B2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182-0217-4C56-A2F2-67C634EAC4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1C3E-51C1-41ED-B2C7-91CA4D3C0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BD86-A8A2-4A11-8CFA-F3AFB7B50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850-714D-45E5-8F6B-E7623ED0D4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6C4-C9AC-4136-ADE8-AF34EA9A1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67D-6246-4703-AE8C-AFA7F7E2B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663-E075-4270-82D4-B87566333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227-4153-4378-829E-9CDAEEBC4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082-FCD0-4184-842C-87460EEA4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98A6-7DB4-486A-B966-8752267032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D6BF-A84F-468F-B333-9A0DA2095D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970F-8542-43F3-BFE4-60FF8A3E8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4D1-7C8F-47B0-AA8C-C21CBDF8C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C97C-38AA-4CFA-84D3-25C7689CD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788-DCA6-404C-8829-393AB565F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FBF2-7241-4409-BB2B-885DB101D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291-A74D-4973-8787-A3268FADE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45AE-A271-4753-B162-A082027392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9DF-4B11-4BE1-B4A1-E9FC5840D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A0BB-DE4B-4053-8441-F662D7174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E1A9-B7B2-42D7-BFB7-0E353E03A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1228-FBC6-4DA5-A2E2-BF9E5875C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2CE-9558-448B-A229-ED3642089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5CE4-7171-4295-AFEB-74CD7E1888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135-CEED-4D76-8007-6787A0B35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8C6-8AEF-407C-B83A-E5ECE58DD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675-C9D8-4519-BE21-C14FD92B2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DE1-58CE-47F6-8873-DE218A3582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B8A-AC7B-4E40-8AD8-DA88912D31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F7F4-E05D-48B5-867D-53E7B39F0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3655-DD10-4520-9738-131541902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07A-72B4-4FC4-8D25-7E92D727B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C44E-F8C0-4CA4-ACBF-D1A0C14FE8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7DEC-B23F-4455-82BC-A153FCF32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711E-9E4E-4AD0-90E9-037CCDFE16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722-CDE0-424E-8E28-07E0D4428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8A5-072B-451E-B24B-FC35E0082A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278-B058-4FA2-AA1F-1644073DC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9F8F-E0A0-4E56-BE7C-FF76F7C0E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634-2C2E-4A5E-B702-8A2387092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520-5C52-4291-A64F-D8FC3A223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DDE-936D-4337-981E-6022492D0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616D-9F98-4D0F-B47E-A9778368D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A9D3-3BC3-4ACB-BDDD-93460EA85D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CE6-5DA6-4CAB-BF42-8D02DAD291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C1A-B5A4-4C4C-9F05-28486937AD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776-DECE-4D59-A10B-CD01BA08B5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368E-3D6A-4072-9632-25C77F6254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C3B3-E34A-4BA1-8B09-2927A3106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AD5A-5EF6-420E-AEBF-02A64D7C4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66B-D8E7-4695-911B-F8C10F779D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82B-DA82-4E9D-8324-149BFF5F8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F7F-97A7-4D53-9D70-C973DCC8A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AAE6-D331-45F4-A678-738FEA3918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36F-1253-4CFD-82BF-FD7BDFDDD1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BAA-CDC3-4419-9910-E70493D7BE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AC5-59BD-41D2-B534-87E9126871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41F-2CC3-41D7-A178-89E21FC20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C8EB-1F15-43FA-B00D-EC30BBBB7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C06-4B04-4FD4-B9BE-A411F946E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6167-F766-4E77-9E50-38734800F2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3D93-8DB5-4B15-A803-2146FDCCF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A24-9A16-4408-9DCD-A64360A00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F65A-0D8B-4B10-B295-4785CBCE7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0A4-0BAB-4EA2-AEA7-89B95ACA8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94C0-0FF5-457D-B4DB-6E40756B11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FD12-7EB5-4D0C-9554-AB0FF0898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456-0F52-4265-94AA-AA8881C69B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68F-76B2-4A2A-A2E6-9C16EB2A1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C42C-DB47-40FE-9945-2BBE5B563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81C-C4DD-4643-A2EC-22DA19EFD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60D9-8E5F-4FE4-B08D-C463ABE45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C41-E167-454C-A4CE-5EB10908CE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748-C751-4CB9-886B-065F01AC3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3FF-401D-484E-9E50-B151F875E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D78-D7F4-475D-BD91-93CD6E8269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D5DC-B0CF-43C6-B5C4-FE759F026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76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568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84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76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568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63160" y="325440"/>
            <a:ext cx="860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760" y="1163520"/>
            <a:ext cx="856152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Language processing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compiler construct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46080" y="3886200"/>
            <a:ext cx="733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ronten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parsin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using LEX and 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160" y="1676520"/>
            <a:ext cx="86025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 compiler is difficult requiring lots of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of the scanner and parser is routine enough that the process may be auto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855720" y="3814920"/>
            <a:ext cx="7409880" cy="2500200"/>
            <a:chOff x="855720" y="3814920"/>
            <a:chExt cx="7409880" cy="2500200"/>
          </a:xfrm>
        </p:grpSpPr>
        <p:sp>
          <p:nvSpPr>
            <p:cNvPr id="108" name="AutoShape 4"/>
            <p:cNvSpPr/>
            <p:nvPr/>
          </p:nvSpPr>
          <p:spPr>
            <a:xfrm>
              <a:off x="855720" y="3814920"/>
              <a:ext cx="2052360" cy="61884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xical Ru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55720" y="47545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ramm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55720" y="56959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emant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3661920" y="4457880"/>
              <a:ext cx="2185920" cy="1212840"/>
            </a:xfrm>
            <a:prstGeom prst="flowChartPreparation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6690960" y="3814920"/>
              <a:ext cx="1574640" cy="250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Par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stCxn id="108" idx="3"/>
              <a:endCxn id="114" idx="2"/>
            </p:cNvCxnSpPr>
            <p:nvPr/>
          </p:nvCxnSpPr>
          <p:spPr>
            <a:xfrm>
              <a:off x="2907720" y="4124160"/>
              <a:ext cx="906840" cy="772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" name="AutoShape 12"/>
            <p:cNvCxnSpPr>
              <a:stCxn id="109" idx="3"/>
              <a:endCxn id="111" idx="1"/>
            </p:cNvCxnSpPr>
            <p:nvPr/>
          </p:nvCxnSpPr>
          <p:spPr>
            <a:xfrm>
              <a:off x="2907720" y="5063760"/>
              <a:ext cx="754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" name="Oval 13"/>
            <p:cNvSpPr/>
            <p:nvPr/>
          </p:nvSpPr>
          <p:spPr>
            <a:xfrm>
              <a:off x="6697440" y="406080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90960" y="4792680"/>
              <a:ext cx="34272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6697440" y="5670720"/>
              <a:ext cx="342360" cy="204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AutoShape 16"/>
            <p:cNvCxnSpPr>
              <a:stCxn id="110" idx="3"/>
              <a:endCxn id="120" idx="2"/>
            </p:cNvCxnSpPr>
            <p:nvPr/>
          </p:nvCxnSpPr>
          <p:spPr>
            <a:xfrm flipV="1">
              <a:off x="2907720" y="5271480"/>
              <a:ext cx="906840" cy="734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17"/>
            <p:cNvCxnSpPr>
              <a:stCxn id="111" idx="3"/>
              <a:endCxn id="116" idx="2"/>
            </p:cNvCxnSpPr>
            <p:nvPr/>
          </p:nvCxnSpPr>
          <p:spPr>
            <a:xfrm flipV="1">
              <a:off x="5848200" y="4163760"/>
              <a:ext cx="849600" cy="900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" name="AutoShape 18"/>
            <p:cNvCxnSpPr>
              <a:stCxn id="111" idx="3"/>
              <a:endCxn id="117" idx="2"/>
            </p:cNvCxnSpPr>
            <p:nvPr/>
          </p:nvCxnSpPr>
          <p:spPr>
            <a:xfrm flipV="1">
              <a:off x="5848200" y="4895280"/>
              <a:ext cx="843120" cy="168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3" name="AutoShape 19"/>
            <p:cNvCxnSpPr>
              <a:stCxn id="111" idx="3"/>
              <a:endCxn id="118" idx="2"/>
            </p:cNvCxnSpPr>
            <p:nvPr/>
          </p:nvCxnSpPr>
          <p:spPr>
            <a:xfrm>
              <a:off x="5848200" y="5063760"/>
              <a:ext cx="849600" cy="71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4" name="Oval 20"/>
            <p:cNvSpPr/>
            <p:nvPr/>
          </p:nvSpPr>
          <p:spPr>
            <a:xfrm>
              <a:off x="3814560" y="47926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21"/>
            <p:cNvSpPr/>
            <p:nvPr/>
          </p:nvSpPr>
          <p:spPr>
            <a:xfrm>
              <a:off x="3814560" y="51688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60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Tool which will produce a parser for a given grammar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YACC (Yet Another Compiler Compiler) is a program designed to compile a LALR(1) grammar and to produce the source code of the syntactic analyzer of the language produced by this 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a grammar (rules) and actions to take upon recognizing a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and optionally a header file of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33240"/>
            <a:ext cx="8569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is a scanner gen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description of patterns an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which contains a function yylex() which, when called, matches patterns and performs actions p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the generated scanner performs lexical analysis and produces tokens for the (YACC-generated) par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784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6"/>
          <p:cNvSpPr/>
          <p:nvPr/>
        </p:nvSpPr>
        <p:spPr>
          <a:xfrm>
            <a:off x="3508200" y="4005360"/>
            <a:ext cx="2259360" cy="718920"/>
          </a:xfrm>
          <a:prstGeom prst="wedgeRoundRectCallout">
            <a:avLst>
              <a:gd name="adj1" fmla="val -35601"/>
              <a:gd name="adj2" fmla="val 16986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to work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0432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6"/>
          <p:cNvSpPr/>
          <p:nvPr/>
        </p:nvSpPr>
        <p:spPr>
          <a:xfrm>
            <a:off x="1647720" y="1700280"/>
            <a:ext cx="1927440" cy="1512720"/>
          </a:xfrm>
          <a:custGeom>
            <a:avLst/>
            <a:gdLst>
              <a:gd name="textAreaLeft" fmla="*/ 1108800 w 1927440"/>
              <a:gd name="textAreaRight" fmla="*/ 1725840 w 1927440"/>
              <a:gd name="textAreaTop" fmla="*/ 280440 h 1512720"/>
              <a:gd name="textAreaBottom" fmla="*/ 5709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68" y="0"/>
                </a:lnTo>
                <a:lnTo>
                  <a:pt x="14968" y="4006"/>
                </a:lnTo>
                <a:lnTo>
                  <a:pt x="12427" y="4006"/>
                </a:lnTo>
                <a:cubicBezTo>
                  <a:pt x="5564" y="4006"/>
                  <a:pt x="0" y="7656"/>
                  <a:pt x="0" y="12158"/>
                </a:cubicBezTo>
                <a:lnTo>
                  <a:pt x="0" y="21600"/>
                </a:lnTo>
                <a:lnTo>
                  <a:pt x="4238" y="21600"/>
                </a:lnTo>
                <a:lnTo>
                  <a:pt x="4238" y="12158"/>
                </a:lnTo>
                <a:cubicBezTo>
                  <a:pt x="4238" y="9946"/>
                  <a:pt x="7904" y="8152"/>
                  <a:pt x="12427" y="8152"/>
                </a:cubicBezTo>
                <a:lnTo>
                  <a:pt x="14968" y="8152"/>
                </a:lnTo>
                <a:lnTo>
                  <a:pt x="1496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08360" y="147168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all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yyle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35800" y="2060640"/>
            <a:ext cx="17222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[0-9]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5369040" y="3141720"/>
            <a:ext cx="0" cy="16556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5369040" y="4797360"/>
            <a:ext cx="13302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6699240" y="4508640"/>
            <a:ext cx="0" cy="288720"/>
          </a:xfrm>
          <a:prstGeom prst="line">
            <a:avLst/>
          </a:prstGeom>
          <a:ln w="349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967120" y="3223800"/>
            <a:ext cx="1869840" cy="1584360"/>
          </a:xfrm>
          <a:custGeom>
            <a:avLst/>
            <a:gdLst>
              <a:gd name="textAreaLeft" fmla="*/ 1075680 w 1869840"/>
              <a:gd name="textAreaRight" fmla="*/ 1623600 w 1869840"/>
              <a:gd name="textAreaTop" fmla="*/ 298440 h 1584360"/>
              <a:gd name="textAreaBottom" fmla="*/ 592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973" y="0"/>
                </a:lnTo>
                <a:lnTo>
                  <a:pt x="12973" y="4072"/>
                </a:lnTo>
                <a:lnTo>
                  <a:pt x="12427" y="4072"/>
                </a:lnTo>
                <a:cubicBezTo>
                  <a:pt x="5564" y="4072"/>
                  <a:pt x="0" y="7692"/>
                  <a:pt x="0" y="12158"/>
                </a:cubicBezTo>
                <a:lnTo>
                  <a:pt x="0" y="21600"/>
                </a:lnTo>
                <a:lnTo>
                  <a:pt x="4103" y="21600"/>
                </a:lnTo>
                <a:lnTo>
                  <a:pt x="4103" y="12158"/>
                </a:lnTo>
                <a:cubicBezTo>
                  <a:pt x="4103" y="9909"/>
                  <a:pt x="7830" y="8086"/>
                  <a:pt x="12427" y="8086"/>
                </a:cubicBezTo>
                <a:lnTo>
                  <a:pt x="12973" y="8086"/>
                </a:lnTo>
                <a:lnTo>
                  <a:pt x="12973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00440" y="358128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ext token is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82480" y="4869000"/>
            <a:ext cx="29926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NUM ‘+’ 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vailabil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, yacc on most UNIX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son: a yacc replacement from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l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SD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/MS-DOS version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3160" y="33012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ACC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asic Operational Sequence</a:t>
            </a:r>
            <a:endParaRPr b="0" lang="en-US" sz="2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341360" y="5849640"/>
            <a:ext cx="94320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555720" y="1673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containing des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in YACC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57880" y="27558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CC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57520" y="376560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source program created by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557520" y="48690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58960" y="5799240"/>
            <a:ext cx="48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able program that will p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given in gram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720800" y="227952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1720800" y="309888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720800" y="420840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720800" y="532116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1265040" y="1702800"/>
            <a:ext cx="109548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m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96720" y="2848320"/>
            <a:ext cx="1032840" cy="39924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189080" y="3638160"/>
            <a:ext cx="124776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.tab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157040" y="4783680"/>
            <a:ext cx="1311840" cy="67356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g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File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upplementary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14880" y="583236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cal LEX format 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ly taken from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xpr : expr '+' term | ter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erm : term '*' factor | fact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actor : '(' expr ')' | ID |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 will address compilers for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th-firs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covering all compiler aspects very briefly, we focus on particular compiler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: optimization and compiler back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rse is complementary to the compiler course at the 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ing: (heavy) practical assignment and one or two take-home 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3160" y="325080"/>
            <a:ext cx="8605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6000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written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  : expr '+' te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: term '*'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finitions Section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token ID 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start ex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6480" y="3044880"/>
            <a:ext cx="233820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16226"/>
              <a:gd name="adj5" fmla="val 51949"/>
              <a:gd name="adj6" fmla="val -644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called a 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035600" y="4946760"/>
            <a:ext cx="2427120" cy="1304640"/>
          </a:xfrm>
          <a:prstGeom prst="borderCallout2">
            <a:avLst>
              <a:gd name="adj1" fmla="val 18750"/>
              <a:gd name="adj2" fmla="val -8333"/>
              <a:gd name="adj3" fmla="val 8759"/>
              <a:gd name="adj4" fmla="val -34009"/>
              <a:gd name="adj5" fmla="val -27861"/>
              <a:gd name="adj6" fmla="val -660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 symb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n-termi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0840" y="32544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produces a function called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produces a function called yypar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yparse() expects to be able to call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ylex(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your 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't want to write your own: Use LEX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0840" y="18108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840" y="109512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nt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(it's a n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parsing is d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err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-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533240"/>
            <a:ext cx="8474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1916280"/>
            <a:ext cx="8248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1480" y="1122480"/>
            <a:ext cx="7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flipV="1">
            <a:off x="1835280" y="1402560"/>
            <a:ext cx="512640" cy="513000"/>
          </a:xfrm>
          <a:custGeom>
            <a:avLst/>
            <a:gdLst>
              <a:gd name="textAreaLeft" fmla="*/ 0 w 512640"/>
              <a:gd name="textAreaRight" fmla="*/ 439560 w 512640"/>
              <a:gd name="textAreaTop" fmla="*/ 341640 h 513000"/>
              <a:gd name="textAreaBottom" fmla="*/ 513000 h 51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840" y="1677600"/>
            <a:ext cx="82483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633840" y="489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flipH="1">
            <a:off x="3119400" y="4772160"/>
            <a:ext cx="512640" cy="512640"/>
          </a:xfrm>
          <a:custGeom>
            <a:avLst/>
            <a:gdLst>
              <a:gd name="textAreaLeft" fmla="*/ 360 w 512640"/>
              <a:gd name="textAreaRight" fmla="*/ 439920 w 51264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7840" y="1709640"/>
            <a:ext cx="82483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94240" y="496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 flipH="1">
            <a:off x="3979080" y="4842000"/>
            <a:ext cx="513000" cy="512640"/>
          </a:xfrm>
          <a:custGeom>
            <a:avLst/>
            <a:gdLst>
              <a:gd name="textAreaLeft" fmla="*/ -360 w 513000"/>
              <a:gd name="textAreaRight" fmla="*/ 439560 w 51300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3280" y="6249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ault: $$ = $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447840" y="3973680"/>
            <a:ext cx="499896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v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7840" y="1788840"/>
            <a:ext cx="8248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2222280" y="2583000"/>
            <a:ext cx="6346800" cy="825480"/>
            <a:chOff x="2222280" y="2583000"/>
            <a:chExt cx="6346800" cy="825480"/>
          </a:xfrm>
        </p:grpSpPr>
        <p:sp>
          <p:nvSpPr>
            <p:cNvPr id="203" name="Line 4"/>
            <p:cNvSpPr/>
            <p:nvPr/>
          </p:nvSpPr>
          <p:spPr>
            <a:xfrm flipH="1">
              <a:off x="2222280" y="2750400"/>
              <a:ext cx="2716200" cy="253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4828320" y="2583000"/>
              <a:ext cx="3740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ok at this and you'l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ver be unhappy again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2417400" y="4527720"/>
            <a:ext cx="6280560" cy="709200"/>
            <a:chOff x="2417400" y="4527720"/>
            <a:chExt cx="6280560" cy="709200"/>
          </a:xfrm>
        </p:grpSpPr>
        <p:sp>
          <p:nvSpPr>
            <p:cNvPr id="206" name="Line 6"/>
            <p:cNvSpPr/>
            <p:nvPr/>
          </p:nvSpPr>
          <p:spPr>
            <a:xfrm flipH="1">
              <a:off x="2417400" y="4704480"/>
              <a:ext cx="2521080" cy="532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38840" y="4527720"/>
              <a:ext cx="37591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ows "State Machine"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d        [_a-zA-Z][_a-zA-Z0-9]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pc      [ \t\n]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mi      [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ma     [,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      { return IN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ar      { return CHAR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   { return FLOA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comma}   { return COMMA; }        /* Necessary?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semi}    { return SEMI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id}      { return 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wspc}    {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28"/>
          <p:cNvSpPr/>
          <p:nvPr/>
        </p:nvSpPr>
        <p:spPr>
          <a:xfrm>
            <a:off x="7655040" y="2476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, not compulsory: Seti, Aho and Ullman,”Compilers Principles, Techniques and Tools” (the Dragon boo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 book, but still more than su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es of relevant chapters can be found in the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ets are available at th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for practical/take-home assignments, deadli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Defini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start 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 CHAR, COMMA, FLOAT, ID, INT,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47840" y="1528920"/>
            <a:ext cx="82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This production is not part of the "officia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grammar. It's primary purpose is to recover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parser errors, so it's probably best if you le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it here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ne :  /* lambda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de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error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"Failure :-(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k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clear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ecl :  type ID list { printf("Success!\n"); }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 :  COMMA ID li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:   INT | CHAR | FLO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: Supplementary Code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FILE *yy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par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while(!feof(yyin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* Don't have to do anything!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950600" y="968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840" y="1374840"/>
            <a:ext cx="8248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HAR 2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OMMA 2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FLOAT 2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D 2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NT 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SEMI 2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ymbol attribut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to attribute gramma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symbol can have a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numeric quantity in case of a number (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tring ("Hello, World!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ymbol table entry in case of a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LEX we put the value into yyl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mplex situations yylval is a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LEX c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0-9]+    {yylval = atoi(yytext); return NUM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allows symbols to have multiple types of valu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t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char*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63520" y="1684440"/>
            <a:ext cx="308772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 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    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*  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598920" y="2692440"/>
            <a:ext cx="1612800" cy="647640"/>
          </a:xfrm>
          <a:prstGeom prst="rightArrow">
            <a:avLst>
              <a:gd name="adj1" fmla="val 50000"/>
              <a:gd name="adj2" fmla="val 622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00720" y="208584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acc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45280" y="2405160"/>
            <a:ext cx="3482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06600" y="4349880"/>
            <a:ext cx="548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-9]+      { yylval.vblno = atoi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NUM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A-z]+      { yylval.strval = strdup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STRING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V="1" rot="5400000">
            <a:off x="6006960" y="3902400"/>
            <a:ext cx="1798920" cy="1395720"/>
          </a:xfrm>
          <a:custGeom>
            <a:avLst/>
            <a:gdLst>
              <a:gd name="textAreaLeft" fmla="*/ 0 w 1798920"/>
              <a:gd name="textAreaRight" fmla="*/ 1541880 w 1798920"/>
              <a:gd name="textAreaTop" fmla="*/ 93060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210360" y="5521320"/>
            <a:ext cx="27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X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lude “y.tab.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7840" y="4425480"/>
            <a:ext cx="824832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-3 =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(1-2)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1-(2-3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‘-’ operator is left-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*3 = 1-(2*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“*” operator is precedent to “-”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447840" y="1386000"/>
          <a:ext cx="426708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386000"/>
                    <a:ext cx="426708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5081400" y="17733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1) 1 – 2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38560" y="26226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2) 1 – 2 *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4320" y="2565360"/>
            <a:ext cx="8775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: expr ‘+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-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-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*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/’ expr { if($3=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yyerror(“divide 0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$$ = $1 / $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‘-’ expr %prec UMINUS {$$ = -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93720" y="1163520"/>
            <a:ext cx="3406680" cy="1268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noassoc UM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&amp;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practical viewpoint: LEX and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: techniques and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/peephole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and loop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flow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a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7840" y="1926720"/>
            <a:ext cx="82483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right ‘=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&lt;' '&gt;' NE LE 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764400" y="1927080"/>
            <a:ext cx="665280" cy="2448000"/>
          </a:xfrm>
          <a:prstGeom prst="downArrow">
            <a:avLst>
              <a:gd name="adj1" fmla="val 50000"/>
              <a:gd name="adj2" fmla="val 919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517360" y="4375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highest 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ig trick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YACC &amp; LEX to work toge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 &amp; 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1243440" y="2556000"/>
            <a:ext cx="6651720" cy="2332080"/>
            <a:chOff x="1243440" y="2556000"/>
            <a:chExt cx="6651720" cy="2332080"/>
          </a:xfrm>
        </p:grpSpPr>
        <p:sp>
          <p:nvSpPr>
            <p:cNvPr id="254" name="Rectangle 4"/>
            <p:cNvSpPr/>
            <p:nvPr/>
          </p:nvSpPr>
          <p:spPr>
            <a:xfrm>
              <a:off x="4025880" y="2556000"/>
              <a:ext cx="1744920" cy="2332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c/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3060720" y="295920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3060720" y="440712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770800" y="3667320"/>
              <a:ext cx="952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1243440" y="2730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lex.yy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1335600" y="4189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y.tab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6800040" y="3438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a.o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uilding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160" y="1533240"/>
            <a:ext cx="86058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you have a lex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canner.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 yacc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cl.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an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r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to build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lex scanner.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c lex.yy.c y.tab.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o parser lex.yy.o y.tab.o -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scanner should include in the definitions section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7"/>
          <p:cNvGrpSpPr/>
          <p:nvPr/>
        </p:nvGrpSpPr>
        <p:grpSpPr>
          <a:xfrm>
            <a:off x="2192400" y="3481560"/>
            <a:ext cx="4093560" cy="3071160"/>
            <a:chOff x="2192400" y="3481560"/>
            <a:chExt cx="4093560" cy="3071160"/>
          </a:xfrm>
        </p:grpSpPr>
        <p:sp>
          <p:nvSpPr>
            <p:cNvPr id="264" name="Oval 4"/>
            <p:cNvSpPr/>
            <p:nvPr/>
          </p:nvSpPr>
          <p:spPr>
            <a:xfrm>
              <a:off x="2955240" y="5862240"/>
              <a:ext cx="333072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5"/>
            <p:cNvSpPr/>
            <p:nvPr/>
          </p:nvSpPr>
          <p:spPr>
            <a:xfrm>
              <a:off x="2192400" y="3481560"/>
              <a:ext cx="76284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6" name="AutoShape 6"/>
            <p:cNvCxnSpPr>
              <a:stCxn id="264" idx="1"/>
              <a:endCxn id="265" idx="3"/>
            </p:cNvCxnSpPr>
            <p:nvPr/>
          </p:nvCxnSpPr>
          <p:spPr>
            <a:xfrm flipV="1" rot="16200000">
              <a:off x="1947600" y="4448160"/>
              <a:ext cx="1851120" cy="1137600"/>
            </a:xfrm>
            <a:prstGeom prst="curvedConnector5">
              <a:avLst>
                <a:gd name="adj1" fmla="val 48842"/>
                <a:gd name="adj2" fmla="val 49984"/>
                <a:gd name="adj3" fmla="val 48842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re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ambig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bottom-up Shift/Reduce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onto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t be reduced (How do we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es: Reduce using a r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: Get another t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cannot look ahead more than one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07880" y="2060640"/>
            <a:ext cx="3765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22960" y="419580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572000" y="22766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0880" y="2060640"/>
            <a:ext cx="3927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36800" y="4648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572000" y="272880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51560" y="47721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572000" y="28195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59216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72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458600" y="479124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0" y="287172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516200" y="2276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cheduling: improving I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-level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s for cach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445860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16200" y="21337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539960" y="47196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38600" y="280044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63932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421160" y="450360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94320" y="2584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95040" y="1989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568400" y="45752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638600" y="26557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9036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572000" y="2728800"/>
            <a:ext cx="410364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15800" y="2060640"/>
            <a:ext cx="3751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383000" y="4700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572360" y="21859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590360" y="4791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38600" y="2871720"/>
            <a:ext cx="386712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590360" y="2276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5237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523760" y="2205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4571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054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45032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04640" y="2060640"/>
            <a:ext cx="376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9020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36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eneral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23760" y="47005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4523760" y="21859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0" y="27288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64976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0" y="26370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572360" y="2060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5162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4572000" y="270828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5162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2060640"/>
            <a:ext cx="3699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451620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572000" y="26370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516200" y="204156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828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638600" y="270828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5828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516200" y="47196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572000" y="2800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530960" y="2205000"/>
            <a:ext cx="10951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3160" y="428400"/>
            <a:ext cx="8605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7840" y="140976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Consider following r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1600200" y="1982880"/>
            <a:ext cx="4567320" cy="1306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572760" y="35798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Following stat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5600" y="35798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expr IF expr stm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SE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8400" y="4127400"/>
            <a:ext cx="43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ossible deri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24800" y="496584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ELSE .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 ELSE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988880" y="4965840"/>
            <a:ext cx="37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. stm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stm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2876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499284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4680" y="591840"/>
            <a:ext cx="81072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a 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will always do shift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1 : re-write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85920" y="3179880"/>
          <a:ext cx="670572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179880"/>
                    <a:ext cx="6705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25240" y="1752480"/>
            <a:ext cx="800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915840" y="2421000"/>
            <a:ext cx="6139080" cy="2647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63160" y="42876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5340240" y="2629080"/>
            <a:ext cx="3189240" cy="1268280"/>
          </a:xfrm>
          <a:prstGeom prst="wedgeRectCallout">
            <a:avLst>
              <a:gd name="adj1" fmla="val -45319"/>
              <a:gd name="adj2" fmla="val 658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rule has the same precedence as token IF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4578480" y="4390920"/>
            <a:ext cx="162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sourc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analysis (e.g., type chec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4080" y="38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/Reduce Conflict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ccurs when a grammar is written in such a way that a decision between shifting and reducing can not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.g.: IF-ELS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To resolve this conflict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will choose to sh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duce/Reduce Conflic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educe/Reduce Confli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art : expr |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xpr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mt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(Bison) resolves the conflict by reducing using the rule that occurs earlier in the gramma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NOT GOOD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, modify grammar to eliminat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Error Messag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Bad error mess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yntax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Compiler needs to give programmer a good ad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better to track the line number in 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332000" y="3933720"/>
          <a:ext cx="670860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933720"/>
                    <a:ext cx="670860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cursive Grammar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82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R parser prefers 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L parser prefers 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Object 4"/>
          <p:cNvGraphicFramePr/>
          <p:nvPr/>
        </p:nvGraphicFramePr>
        <p:xfrm>
          <a:off x="3473280" y="1376280"/>
          <a:ext cx="41324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1376280"/>
                    <a:ext cx="41324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5"/>
          <p:cNvGraphicFramePr/>
          <p:nvPr/>
        </p:nvGraphicFramePr>
        <p:xfrm>
          <a:off x="3473280" y="3124080"/>
          <a:ext cx="4132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3124080"/>
                    <a:ext cx="4132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from LEX &amp;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 = 4 +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 =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= 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essure = (78 + 34) * 1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63160" y="18108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ramm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::= expression '+' term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'-' term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    ::= term '*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'/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    ::= '(' expression ')'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-' factor 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BE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h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ader for calculato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define NSYMS 2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maximum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 symbol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symtab[NSYMS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43584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029000" y="482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76280" y="482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719760" y="482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7029000" y="825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7676280" y="825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6681600" y="82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7029000" y="1168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676280" y="1168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6681600" y="11685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7029000" y="1511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7676280" y="1511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6681600" y="1511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7029000" y="1854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7676280" y="1854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6681600" y="1854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7029000" y="21970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7676280" y="21970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6681600" y="2197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7029000" y="25401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7676280" y="25401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681600" y="2540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7029000" y="28828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6"/>
          <p:cNvSpPr/>
          <p:nvPr/>
        </p:nvSpPr>
        <p:spPr>
          <a:xfrm>
            <a:off x="7676280" y="28828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6681600" y="2882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7029000" y="32259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7676280" y="32259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6681600" y="32259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029000" y="35686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7676280" y="35686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6681600" y="3568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7029000" y="3911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676280" y="3911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6575040" y="3911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7029000" y="4254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676280" y="4254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6575040" y="42544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7029000" y="4597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7676280" y="4597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6575040" y="459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7029000" y="4940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7676280" y="4940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6575040" y="4940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7029000" y="5283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7676280" y="5283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575040" y="5283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9"/>
          <p:cNvGrpSpPr/>
          <p:nvPr/>
        </p:nvGrpSpPr>
        <p:grpSpPr>
          <a:xfrm>
            <a:off x="7656480" y="5851440"/>
            <a:ext cx="112680" cy="622080"/>
            <a:chOff x="7656480" y="5851440"/>
            <a:chExt cx="112680" cy="622080"/>
          </a:xfrm>
        </p:grpSpPr>
        <p:sp>
          <p:nvSpPr>
            <p:cNvPr id="464" name="Oval 50"/>
            <p:cNvSpPr/>
            <p:nvPr/>
          </p:nvSpPr>
          <p:spPr>
            <a:xfrm>
              <a:off x="7656480" y="585144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1"/>
            <p:cNvSpPr/>
            <p:nvPr/>
          </p:nvSpPr>
          <p:spPr>
            <a:xfrm>
              <a:off x="7656480" y="61221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2"/>
            <p:cNvSpPr/>
            <p:nvPr/>
          </p:nvSpPr>
          <p:spPr>
            <a:xfrm>
              <a:off x="7656480" y="63939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union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symp&gt;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dval&gt;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part of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optimiz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 to IR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very computational intensive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08080" y="601200"/>
            <a:ext cx="86817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 '\n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 statement '\n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ME '=' 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$1-&gt;value =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printf("= %g\n", $1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: expression '+' term { $$ = $1 +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expression '-' term { $$ = $1 -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08080" y="487440"/>
            <a:ext cx="868176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:  term '*' factor { $$ = $1 *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 term '/' factor { if($3 == 0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divide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$ = $1 / $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actor: '(' expression ')' { $$ = 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'-' factor         { $$ = -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AME               { $$ = $1-&gt;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look up a symbol table entry, add if not presen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char *s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(sp = symtab; sp &lt; &amp;symtab[NSYMS]; sp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is it already here?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sp-&gt;name &amp;&amp; !strcmp(sp-&gt;name, s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!sp-&gt;name) { /* is it fre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p-&gt;name = strdup(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otherwise continue to nex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Too many symbol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it(1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cannot continu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* symlook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 "yyerror: %s\n", 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ypedef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YYSTYP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AME 2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UMBER 2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7733520" y="616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alclexer.l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&lt;math.h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[0-9]+|([0-9]*\.[0-9]+)([eE][-+]?[0-9]+)?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dval = atof(yytext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UMB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 \t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/* ignore white spac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A-Za-z][A-Za-z0-9]*  { /* return symbol point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symp = symlook(yy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AM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$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return 0; /* end of input */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\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yytext[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16320" y="457200"/>
            <a:ext cx="278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 = 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ACC = 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C = g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lcu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 lex.yy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o calcu y.tab.o lex.yy.o -ly -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c y.tab.h: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YACC)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d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: y.tab.c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y.tab.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o: y.tab.h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c: calclexer.l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LEX) calclexer.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487920" y="4722840"/>
            <a:ext cx="2314440" cy="177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e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cal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target 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phole opti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6040" y="385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82480" y="141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start'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  Specify the grammar's start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unio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collection of data types that semantic values may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oke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with no precedence or associativity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ype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type of semantic values for a nonterminal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righ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righ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lef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a terminal symbol (token type name) that is lef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nonassoc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nonassociative  (using it in a way that would be associative is a syntax error, e.g.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x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z is syntax err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 borrow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y D. Pimen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21:20:36Z</dcterms:created>
  <dc:creator>Annie Benet</dc:creator>
  <dc:description/>
  <dc:language>en-US</dc:language>
  <cp:lastModifiedBy>Microsoft account</cp:lastModifiedBy>
  <dcterms:modified xsi:type="dcterms:W3CDTF">2022-08-23T07:22:17Z</dcterms:modified>
  <cp:revision>94</cp:revision>
  <dc:subject/>
  <dc:title>Introduction to Compiler Design</dc:title>
</cp:coreProperties>
</file>