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CA7C-DA52-4A1B-8756-07BC9FC06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36DF-3177-4DCA-A5E0-FC95034608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2222-7119-436E-8AF3-7BEE6AB23A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4B83-9DD7-4202-BF1F-98EA897038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57E7-4D49-460A-854E-8A12128E0B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F942-F24B-47D7-9D4B-3E246BC51B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0C28-7AA1-4435-96A3-01A62DE5A7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A6CB-7150-476B-9981-C9647750F6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4A8E-B487-4D8C-86D6-F9CDC30E87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C53A-9E65-42A2-BF1B-49D19096F6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D8BB-C2A1-4AA7-8948-FF52745999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AE9E-2E4A-4D6C-BDE2-2911A10A4B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4F85-82DD-448B-B6F5-6128B9FB22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21E4-EF18-4D5E-A64C-C50B63321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898E-2A8E-4D2F-B31F-6B9E8581EE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0486-DD4F-4188-8808-424A920E3C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E163-E32A-4E2A-8879-4553FF5174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40EF-AFFE-4413-8904-A1BAB4DB71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778B-2DF4-440D-99B3-5D32FE3A6A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B7F8-DFE6-4F71-B3FF-A6F029D71A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FAF4-96F7-4A43-89AC-9755C34407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C0A9-95A3-46D3-B81F-6C3A4D7168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673C-6123-4CEC-9EBB-132452422E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EC77-B86E-4661-8078-B8CA10E569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5784-811B-4EE0-BD77-D875CE29CA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9683-6BF0-49F5-82E3-7E744D9AAA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0701-4D5F-49F5-A29C-4920A6920D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53D8-AADF-4C49-A130-720C6D74DC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1D00-EBB2-4879-80F8-818C984910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3047-5FD1-420A-8260-1BEF598906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2CE9-A7EA-438B-AD9F-5A2DCAA3D8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E2B1-D248-48DC-ABFB-CF54AFDAAE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76FE-5A02-414F-A82C-7AD648329B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0F18-0307-483A-B840-AA655D9340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5D1D-5034-4A18-A3B2-26EBC19465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B641-3BEF-46F9-A51D-94EB78B534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6FAF-21ED-45FE-9619-C437881E59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82D8-0352-4405-AA97-05B5FC83B8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F4A8-91A5-446D-9608-3811E9799F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2E12-036E-41F3-B5F1-F5FE8729BC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91CD-2D7E-4DD8-8E9A-0DEF49D679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076F-AA35-403A-BD61-52B808839F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95CC-6997-4438-A3E1-D9A69430E1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5C5D-07FF-4FFF-8160-6665614DC6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98E0-0006-4330-A263-9B4C958525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79E5-2356-48F7-A9B2-FDE912D715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68A2-CE65-4F66-9885-DB464867A8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3DC5-7879-46A6-9633-F5036B8124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D990-70B2-42DA-9ABE-3B72C6E587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DE9E-EFCE-4DDC-A851-4DB310C694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259A-F767-4086-82C2-D7C0AF61D8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5BEC-2D18-4010-AE99-C3AC9A034B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0E63-272F-4726-9E48-A0FE8A197E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0D55-7690-45F5-8AF3-F331ACBDFD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991F-1D9C-4D3A-9FCF-FEFF34C8CE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1247-1192-4F6D-99F8-867DA73A21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4457-F67D-465E-AB00-676E0CD250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2CED-EAB8-4120-BA16-01E65B75C4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F883-02A2-4345-B9EF-F7B306E55E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50F0-31F6-4C12-9ACE-209C3677C9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8C8D-4DCD-4E25-A6E6-9073505796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D032-4EB2-48E0-B9EE-03EDF10D0A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AED6-E742-4882-9392-942A69CDA4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8371-1914-4D40-A114-33276B51BB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06E7-C45F-47B6-92F7-8566DF5798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73E7-F424-4804-A2E1-94358BDD12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C360-D82E-4117-8E7E-48C7F1872A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960A-126F-4304-B34C-F7E1BB1BED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E597-147B-4234-9B21-062FD08897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7E29-E5D8-44F3-A7AC-BF0B9634BA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9C41-80CE-402F-8ABA-EFF48A3C43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B164-056D-4AFC-8820-4169264D76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785E-84BA-4C38-9CFC-C9762A216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AB88-4762-41AF-908D-54EBDB244F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9724-2888-4D58-9B57-6901E053FD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0494-F4E3-4AED-B8A9-3702461525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B1C0-A1F4-47F8-BE81-41D8AECE2A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10E6-8A96-4F27-86A4-D521985B1D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3133-28B3-4FC4-998A-9C9A39A9C6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C165-DDE8-4D48-88CD-64F8201B71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27A0-CA9F-45DE-A2AA-B7D342709C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19BD-D43D-4354-88AA-BF5E98EE7E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9FF3-E8AB-4806-9DF0-5F56D591D4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4924-81ED-48AB-BB3C-5BD3B3ACFE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D393-F33F-4E22-98C0-69DD36EEF9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A6B3-CCE2-48E0-8E1B-70DE161CFF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4AFB-2742-4AB6-A89B-590D87EF4D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2F7F-561E-40CB-B633-2BF3E68BF4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82E3-777B-4D83-99DA-86C07F483F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C4B3-0DA1-4B9D-B91E-2E3C1F86D4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8501-247C-4AE1-863E-CF744FECFB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4748-D64F-4932-9EF8-FC14EB8469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840" y="4155120"/>
            <a:ext cx="82483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784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60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6760" y="153324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5680" y="153324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840" y="415512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6760" y="415512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5680" y="415512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63160" y="325440"/>
            <a:ext cx="8605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4784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60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840" y="4155120"/>
            <a:ext cx="82483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9760" y="1163520"/>
            <a:ext cx="8561520" cy="22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Language processing: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introduction to compiler construction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46080" y="3886200"/>
            <a:ext cx="733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Frontend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Introduction to parsing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using LEX and YACC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160" y="1676520"/>
            <a:ext cx="860256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a compiler is difficult requiring lots of time and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of the scanner and parser is routine enough that the process may be autom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22"/>
          <p:cNvGrpSpPr/>
          <p:nvPr/>
        </p:nvGrpSpPr>
        <p:grpSpPr>
          <a:xfrm>
            <a:off x="855720" y="3814920"/>
            <a:ext cx="7409880" cy="2500200"/>
            <a:chOff x="855720" y="3814920"/>
            <a:chExt cx="7409880" cy="2500200"/>
          </a:xfrm>
        </p:grpSpPr>
        <p:sp>
          <p:nvSpPr>
            <p:cNvPr id="108" name="AutoShape 4"/>
            <p:cNvSpPr/>
            <p:nvPr/>
          </p:nvSpPr>
          <p:spPr>
            <a:xfrm>
              <a:off x="855720" y="3814920"/>
              <a:ext cx="2052360" cy="618840"/>
            </a:xfrm>
            <a:prstGeom prst="flowChartTerminator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Lexical Ru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855720" y="4754520"/>
              <a:ext cx="2052360" cy="619200"/>
            </a:xfrm>
            <a:prstGeom prst="flowChartTerminator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Gramm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55720" y="5695920"/>
              <a:ext cx="2052360" cy="619200"/>
            </a:xfrm>
            <a:prstGeom prst="flowChartTerminator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emant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9"/>
            <p:cNvSpPr/>
            <p:nvPr/>
          </p:nvSpPr>
          <p:spPr>
            <a:xfrm>
              <a:off x="3661920" y="4457880"/>
              <a:ext cx="2185920" cy="1212840"/>
            </a:xfrm>
            <a:prstGeom prst="flowChartPreparation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6690960" y="3814920"/>
              <a:ext cx="1574640" cy="2500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Scann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--------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Pars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--------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Co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3" name="AutoShape 11"/>
            <p:cNvCxnSpPr>
              <a:stCxn id="108" idx="3"/>
              <a:endCxn id="114" idx="2"/>
            </p:cNvCxnSpPr>
            <p:nvPr/>
          </p:nvCxnSpPr>
          <p:spPr>
            <a:xfrm>
              <a:off x="2907720" y="4124160"/>
              <a:ext cx="906840" cy="7725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5" name="AutoShape 12"/>
            <p:cNvCxnSpPr>
              <a:stCxn id="109" idx="3"/>
              <a:endCxn id="111" idx="1"/>
            </p:cNvCxnSpPr>
            <p:nvPr/>
          </p:nvCxnSpPr>
          <p:spPr>
            <a:xfrm>
              <a:off x="2907720" y="5063760"/>
              <a:ext cx="7542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6" name="Oval 13"/>
            <p:cNvSpPr/>
            <p:nvPr/>
          </p:nvSpPr>
          <p:spPr>
            <a:xfrm>
              <a:off x="6697440" y="4060800"/>
              <a:ext cx="34236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90960" y="4792680"/>
              <a:ext cx="34272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6697440" y="5670720"/>
              <a:ext cx="342360" cy="204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9" name="AutoShape 16"/>
            <p:cNvCxnSpPr>
              <a:stCxn id="110" idx="3"/>
              <a:endCxn id="120" idx="2"/>
            </p:cNvCxnSpPr>
            <p:nvPr/>
          </p:nvCxnSpPr>
          <p:spPr>
            <a:xfrm flipV="1">
              <a:off x="2907720" y="5271480"/>
              <a:ext cx="906840" cy="734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1" name="AutoShape 17"/>
            <p:cNvCxnSpPr>
              <a:stCxn id="111" idx="3"/>
              <a:endCxn id="116" idx="2"/>
            </p:cNvCxnSpPr>
            <p:nvPr/>
          </p:nvCxnSpPr>
          <p:spPr>
            <a:xfrm flipV="1">
              <a:off x="5848200" y="4163760"/>
              <a:ext cx="849600" cy="9007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2" name="AutoShape 18"/>
            <p:cNvCxnSpPr>
              <a:stCxn id="111" idx="3"/>
              <a:endCxn id="117" idx="2"/>
            </p:cNvCxnSpPr>
            <p:nvPr/>
          </p:nvCxnSpPr>
          <p:spPr>
            <a:xfrm flipV="1">
              <a:off x="5848200" y="4895280"/>
              <a:ext cx="843120" cy="168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3" name="AutoShape 19"/>
            <p:cNvCxnSpPr>
              <a:stCxn id="111" idx="3"/>
              <a:endCxn id="118" idx="2"/>
            </p:cNvCxnSpPr>
            <p:nvPr/>
          </p:nvCxnSpPr>
          <p:spPr>
            <a:xfrm>
              <a:off x="5848200" y="5063760"/>
              <a:ext cx="849600" cy="7102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4" name="Oval 20"/>
            <p:cNvSpPr/>
            <p:nvPr/>
          </p:nvSpPr>
          <p:spPr>
            <a:xfrm>
              <a:off x="3814560" y="4792680"/>
              <a:ext cx="34236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21"/>
            <p:cNvSpPr/>
            <p:nvPr/>
          </p:nvSpPr>
          <p:spPr>
            <a:xfrm>
              <a:off x="3814560" y="5168880"/>
              <a:ext cx="34236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60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YACC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What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YAC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新細明體"/>
              </a:rPr>
              <a:t>Tool which will produce a parser for a given grammar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新細明體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YACC (Yet Another Compiler Compiler) is a program designed to compile a LALR(1) grammar and to produce the source code of the syntactic analyzer of the language produced by this gramm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is a grammar (rules) and actions to take upon recognizing a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is a C program and optionally a header file of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EX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3520" y="1533240"/>
            <a:ext cx="856944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 is a scanner gen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is description of patterns and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is a C program which contains a function yylex() which, when called, matches patterns and performs actions pe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, the generated scanner performs lexical analysis and produces tokens for the (YACC-generated) par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797840" y="272160"/>
            <a:ext cx="53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LEX and YACC: a t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982800" y="3284640"/>
          <a:ext cx="181584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3284640"/>
                    <a:ext cx="181584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"/>
          <p:cNvGraphicFramePr/>
          <p:nvPr/>
        </p:nvGraphicFramePr>
        <p:xfrm>
          <a:off x="6367320" y="3429000"/>
          <a:ext cx="171288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7320" y="3429000"/>
                    <a:ext cx="17128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5"/>
          <p:cNvGraphicFramePr/>
          <p:nvPr/>
        </p:nvGraphicFramePr>
        <p:xfrm>
          <a:off x="3774960" y="1700280"/>
          <a:ext cx="1727280" cy="14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4960" y="1700280"/>
                    <a:ext cx="17272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AutoShape 6"/>
          <p:cNvSpPr/>
          <p:nvPr/>
        </p:nvSpPr>
        <p:spPr>
          <a:xfrm>
            <a:off x="3508200" y="4005360"/>
            <a:ext cx="2259360" cy="718920"/>
          </a:xfrm>
          <a:prstGeom prst="wedgeRoundRectCallout">
            <a:avLst>
              <a:gd name="adj1" fmla="val -35601"/>
              <a:gd name="adj2" fmla="val 169865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w to work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804320" y="272160"/>
            <a:ext cx="53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LEX and YACC: a t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982800" y="3284640"/>
          <a:ext cx="181584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3284640"/>
                    <a:ext cx="181584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6367320" y="3429000"/>
          <a:ext cx="171288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7320" y="3429000"/>
                    <a:ext cx="17128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3774960" y="1700280"/>
          <a:ext cx="1727280" cy="14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4960" y="1700280"/>
                    <a:ext cx="17272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AutoShape 6"/>
          <p:cNvSpPr/>
          <p:nvPr/>
        </p:nvSpPr>
        <p:spPr>
          <a:xfrm>
            <a:off x="1647720" y="1700280"/>
            <a:ext cx="1927440" cy="1512720"/>
          </a:xfrm>
          <a:custGeom>
            <a:avLst/>
            <a:gdLst>
              <a:gd name="textAreaLeft" fmla="*/ 1108800 w 1927440"/>
              <a:gd name="textAreaRight" fmla="*/ 1725840 w 1927440"/>
              <a:gd name="textAreaTop" fmla="*/ 280440 h 1512720"/>
              <a:gd name="textAreaBottom" fmla="*/ 57096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68" y="0"/>
                </a:lnTo>
                <a:lnTo>
                  <a:pt x="14968" y="4006"/>
                </a:lnTo>
                <a:lnTo>
                  <a:pt x="12427" y="4006"/>
                </a:lnTo>
                <a:cubicBezTo>
                  <a:pt x="5564" y="4006"/>
                  <a:pt x="0" y="7656"/>
                  <a:pt x="0" y="12158"/>
                </a:cubicBezTo>
                <a:lnTo>
                  <a:pt x="0" y="21600"/>
                </a:lnTo>
                <a:lnTo>
                  <a:pt x="4238" y="21600"/>
                </a:lnTo>
                <a:lnTo>
                  <a:pt x="4238" y="12158"/>
                </a:lnTo>
                <a:cubicBezTo>
                  <a:pt x="4238" y="9946"/>
                  <a:pt x="7904" y="8152"/>
                  <a:pt x="12427" y="8152"/>
                </a:cubicBezTo>
                <a:lnTo>
                  <a:pt x="14968" y="8152"/>
                </a:lnTo>
                <a:lnTo>
                  <a:pt x="14968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08360" y="1471680"/>
            <a:ext cx="17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call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新細明體"/>
              </a:rPr>
              <a:t>yylex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635800" y="2060640"/>
            <a:ext cx="172224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[0-9]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5369040" y="3141720"/>
            <a:ext cx="0" cy="165564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5369040" y="4797360"/>
            <a:ext cx="1330200" cy="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6699240" y="4508640"/>
            <a:ext cx="0" cy="288720"/>
          </a:xfrm>
          <a:prstGeom prst="line">
            <a:avLst/>
          </a:prstGeom>
          <a:ln w="349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 rot="10800000">
            <a:off x="2967120" y="3223800"/>
            <a:ext cx="1869840" cy="1584360"/>
          </a:xfrm>
          <a:custGeom>
            <a:avLst/>
            <a:gdLst>
              <a:gd name="textAreaLeft" fmla="*/ 1075680 w 1869840"/>
              <a:gd name="textAreaRight" fmla="*/ 1623600 w 1869840"/>
              <a:gd name="textAreaTop" fmla="*/ 298440 h 1584360"/>
              <a:gd name="textAreaBottom" fmla="*/ 5929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973" y="0"/>
                </a:lnTo>
                <a:lnTo>
                  <a:pt x="12973" y="4072"/>
                </a:lnTo>
                <a:lnTo>
                  <a:pt x="12427" y="4072"/>
                </a:lnTo>
                <a:cubicBezTo>
                  <a:pt x="5564" y="4072"/>
                  <a:pt x="0" y="7692"/>
                  <a:pt x="0" y="12158"/>
                </a:cubicBezTo>
                <a:lnTo>
                  <a:pt x="0" y="21600"/>
                </a:lnTo>
                <a:lnTo>
                  <a:pt x="4103" y="21600"/>
                </a:lnTo>
                <a:lnTo>
                  <a:pt x="4103" y="12158"/>
                </a:lnTo>
                <a:cubicBezTo>
                  <a:pt x="4103" y="9909"/>
                  <a:pt x="7830" y="8086"/>
                  <a:pt x="12427" y="8086"/>
                </a:cubicBezTo>
                <a:lnTo>
                  <a:pt x="12973" y="8086"/>
                </a:lnTo>
                <a:lnTo>
                  <a:pt x="12973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2800440" y="358128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next token is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582480" y="4869000"/>
            <a:ext cx="299268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NUM ‘+’ 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Availabilit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7840" y="1533600"/>
            <a:ext cx="824832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, yacc on most UNIX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son: a yacc replacement from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: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e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al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SD yac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/MS-DOS versions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3160" y="33012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YACC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Basic Operational Sequence</a:t>
            </a:r>
            <a:endParaRPr b="0" lang="en-US" sz="2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341360" y="5849640"/>
            <a:ext cx="943200" cy="755280"/>
          </a:xfrm>
          <a:prstGeom prst="flowChartMagneticDisk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555720" y="167328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 containing desi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mmar in YACC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557880" y="27558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ACC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557520" y="376560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source program created by YA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557520" y="48690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 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558960" y="5799240"/>
            <a:ext cx="48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able program that will p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mmar given in gram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1720800" y="227952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1720800" y="309888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1720800" y="420840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720800" y="532116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1265040" y="1702800"/>
            <a:ext cx="1095480" cy="755280"/>
          </a:xfrm>
          <a:prstGeom prst="flowChartMagneticDisk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m.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1296720" y="2848320"/>
            <a:ext cx="1032840" cy="399240"/>
          </a:xfrm>
          <a:prstGeom prst="flowChartPredefined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a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1189080" y="3638160"/>
            <a:ext cx="1247760" cy="755280"/>
          </a:xfrm>
          <a:prstGeom prst="flowChartMagneticDisk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.tab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1157040" y="4783680"/>
            <a:ext cx="1311840" cy="673560"/>
          </a:xfrm>
          <a:prstGeom prst="flowChartPredefined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 g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YACC File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upplementary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5114880" y="5832360"/>
            <a:ext cx="38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ntical LEX format w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lly taken from thi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ules Sec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xpr : expr '+' term | ter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erm : term '*' factor | facto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actor : '(' expr ')' | ID | NU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About this cours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art will address compilers for programming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th-first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 of covering all compiler aspects very briefly, we focus on particular compiler s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: optimization and compiler back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rse is complementary to the compiler course at the 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ing: (heavy) practical assignment and one or two take-home ass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3160" y="325080"/>
            <a:ext cx="86058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ules Sec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60000"/>
            <a:ext cx="77724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ly written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  : expr '+' ter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  : term '*' f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expr ')'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Definitions Section</a:t>
            </a:r>
            <a:br>
              <a:rPr sz="4000"/>
            </a:b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1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token ID 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start ex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416480" y="3044880"/>
            <a:ext cx="2338200" cy="1222200"/>
          </a:xfrm>
          <a:prstGeom prst="borderCallout2">
            <a:avLst>
              <a:gd name="adj1" fmla="val 18750"/>
              <a:gd name="adj2" fmla="val -8333"/>
              <a:gd name="adj3" fmla="val 9351"/>
              <a:gd name="adj4" fmla="val -16226"/>
              <a:gd name="adj5" fmla="val 51949"/>
              <a:gd name="adj6" fmla="val -6442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called a ter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4035600" y="4946760"/>
            <a:ext cx="2427120" cy="1304640"/>
          </a:xfrm>
          <a:prstGeom prst="borderCallout2">
            <a:avLst>
              <a:gd name="adj1" fmla="val 18750"/>
              <a:gd name="adj2" fmla="val -8333"/>
              <a:gd name="adj3" fmla="val 8759"/>
              <a:gd name="adj4" fmla="val -34009"/>
              <a:gd name="adj5" fmla="val -27861"/>
              <a:gd name="adj6" fmla="val -6605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rt symbo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n-termi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0840" y="325440"/>
            <a:ext cx="277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idebar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 produces a function called yylex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CC produces a function called yypar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yparse() expects to be able to call yylex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ylex(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your ow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don't want to write your own: Use LEX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0840" y="181080"/>
            <a:ext cx="277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idebar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7840" y="109512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nt yylex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(it's a n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NU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lse if(it's an 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lse if(parsing is d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lse if(it's an err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-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533240"/>
            <a:ext cx="847404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expr '+' term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term '*' factor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expr ')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7840" y="1916280"/>
            <a:ext cx="824832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exp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'+' term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er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er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'*' factor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facto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expr ')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41480" y="1122480"/>
            <a:ext cx="7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$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 flipV="1">
            <a:off x="1835280" y="1402560"/>
            <a:ext cx="512640" cy="513000"/>
          </a:xfrm>
          <a:custGeom>
            <a:avLst/>
            <a:gdLst>
              <a:gd name="textAreaLeft" fmla="*/ 0 w 512640"/>
              <a:gd name="textAreaRight" fmla="*/ 439560 w 512640"/>
              <a:gd name="textAreaTop" fmla="*/ 341640 h 513000"/>
              <a:gd name="textAreaBottom" fmla="*/ 513000 h 513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7840" y="1677600"/>
            <a:ext cx="82483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expr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term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term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factor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exp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')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633840" y="4896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$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flipH="1">
            <a:off x="3119400" y="4772160"/>
            <a:ext cx="512640" cy="512640"/>
          </a:xfrm>
          <a:custGeom>
            <a:avLst/>
            <a:gdLst>
              <a:gd name="textAreaLeft" fmla="*/ 360 w 512640"/>
              <a:gd name="textAreaRight" fmla="*/ 439920 w 512640"/>
              <a:gd name="textAreaTop" fmla="*/ 34200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7840" y="1709640"/>
            <a:ext cx="824832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expr '+'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er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term '*'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facto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expr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494240" y="496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$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 flipH="1">
            <a:off x="3979080" y="4842000"/>
            <a:ext cx="513000" cy="512640"/>
          </a:xfrm>
          <a:custGeom>
            <a:avLst/>
            <a:gdLst>
              <a:gd name="textAreaLeft" fmla="*/ -360 w 513000"/>
              <a:gd name="textAreaRight" fmla="*/ 439560 w 513000"/>
              <a:gd name="textAreaTop" fmla="*/ 34200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623280" y="624996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ault: $$ = $1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447840" y="3973680"/>
            <a:ext cx="499896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v gram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produ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.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ored, lonely? Try this!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7840" y="1788840"/>
            <a:ext cx="82483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d gram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produ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.tab.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2222280" y="2583000"/>
            <a:ext cx="6346800" cy="825480"/>
            <a:chOff x="2222280" y="2583000"/>
            <a:chExt cx="6346800" cy="825480"/>
          </a:xfrm>
        </p:grpSpPr>
        <p:sp>
          <p:nvSpPr>
            <p:cNvPr id="203" name="Line 4"/>
            <p:cNvSpPr/>
            <p:nvPr/>
          </p:nvSpPr>
          <p:spPr>
            <a:xfrm flipH="1">
              <a:off x="2222280" y="2750400"/>
              <a:ext cx="2716200" cy="253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4828320" y="2583000"/>
              <a:ext cx="37407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ok at this and you'l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ver be unhappy again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Group 10"/>
          <p:cNvGrpSpPr/>
          <p:nvPr/>
        </p:nvGrpSpPr>
        <p:grpSpPr>
          <a:xfrm>
            <a:off x="2417400" y="4527720"/>
            <a:ext cx="6280560" cy="709200"/>
            <a:chOff x="2417400" y="4527720"/>
            <a:chExt cx="6280560" cy="709200"/>
          </a:xfrm>
        </p:grpSpPr>
        <p:sp>
          <p:nvSpPr>
            <p:cNvPr id="206" name="Line 6"/>
            <p:cNvSpPr/>
            <p:nvPr/>
          </p:nvSpPr>
          <p:spPr>
            <a:xfrm flipH="1">
              <a:off x="2417400" y="4704480"/>
              <a:ext cx="2521080" cy="532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938840" y="4527720"/>
              <a:ext cx="37591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ows "State Machine"®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LEX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7840" y="1239840"/>
            <a:ext cx="82483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include "y.tab.h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d        [_a-zA-Z][_a-zA-Z0-9]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pc      [ \t\n]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mi      [;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mma     [,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       { return INT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ar      { return CHAR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loat     { return FLOAT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comma}   { return COMMA; }        /* Necessary?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semi}    { return SEMI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id}      { return ID;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wspc}    {;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028"/>
          <p:cNvSpPr/>
          <p:nvPr/>
        </p:nvSpPr>
        <p:spPr>
          <a:xfrm>
            <a:off x="7655040" y="2476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nner.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About this course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ed, not compulsory: Seti, Aho and Ullman,”Compilers Principles, Techniques and Tools” (the Dragon boo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 book, but still more than su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ies of relevant chapters can be found in the 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ets are available at the 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m for practical/take-home assignments, deadlin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Definition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start 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oken  CHAR, COMMA, FLOAT, ID, INT, SE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931520" y="2476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47840" y="1528920"/>
            <a:ext cx="8248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This production is not part of the "official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grammar. It's primary purpose is to recover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parser errors, so it's probably best if you le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it here.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ne :  /* lambda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line de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line error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intf("Failure :-(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k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cleari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Rul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931520" y="2476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Rul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ecl :  type ID list { printf("Success!\n"); }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st :  COMMA ID li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SE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ype :   INT | CHAR | FLO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7931520" y="2476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Example: Supplementary Code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tern FILE *yyi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ypar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 while(!feof(yyin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yerror(char *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/* Don't have to do anything! 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950600" y="9684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ored, lonely? Try this!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7840" y="1374840"/>
            <a:ext cx="82483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d decl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.tab.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CHAR 2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COMMA 2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FLOAT 2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ID 2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INT 26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SEMI 2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ymbol attribut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 to attribute gramma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symbol can have a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be a numeric quantity in case of a number (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be a pointer to a string ("Hello, World!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be a pointer to a symbol table entry in case of a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using LEX we put the value into yyl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omplex situations yylval is a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LEX co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0-9]+    {yylval = atoi(yytext); return NUM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Symbol attribute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YACC allows symbols to have multiple types of value 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%union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double d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t    vbln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char*  str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Symbol attribute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63520" y="1684440"/>
            <a:ext cx="3087720" cy="192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union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uble  d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        vbln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*    str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3598920" y="2692440"/>
            <a:ext cx="1612800" cy="647640"/>
          </a:xfrm>
          <a:prstGeom prst="rightArrow">
            <a:avLst>
              <a:gd name="adj1" fmla="val 50000"/>
              <a:gd name="adj2" fmla="val 6225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600720" y="2085840"/>
            <a:ext cx="12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acc -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45280" y="2405160"/>
            <a:ext cx="34826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y.tab.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tern YYSTYPE yyl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606600" y="4349880"/>
            <a:ext cx="5484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0-9]+      { yylval.vblno = atoi(yytex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 NUM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A-z]+      { yylval.strval = strdup(yytex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 STRING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 flipV="1" rot="5400000">
            <a:off x="6006960" y="3902400"/>
            <a:ext cx="1798920" cy="1395720"/>
          </a:xfrm>
          <a:custGeom>
            <a:avLst/>
            <a:gdLst>
              <a:gd name="textAreaLeft" fmla="*/ 0 w 1798920"/>
              <a:gd name="textAreaRight" fmla="*/ 1541880 w 1798920"/>
              <a:gd name="textAreaTop" fmla="*/ 930600 h 1395720"/>
              <a:gd name="textAreaBottom" fmla="*/ 1396080 h 1395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210360" y="5521320"/>
            <a:ext cx="278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LEX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clude “y.tab.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Precedence / Associ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7840" y="4425480"/>
            <a:ext cx="8248320" cy="20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1-2-3 =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新細明體"/>
              </a:rPr>
              <a:t>(1-2)-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?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1-(2-3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Define ‘-’ operator is left-assoc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1-2*3 = 1-(2*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Define “*” operator is precedent to “-”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447840" y="1386000"/>
          <a:ext cx="4267080" cy="28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1386000"/>
                    <a:ext cx="426708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 Box 5"/>
          <p:cNvSpPr/>
          <p:nvPr/>
        </p:nvSpPr>
        <p:spPr>
          <a:xfrm>
            <a:off x="5081400" y="1773360"/>
            <a:ext cx="19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65 Medium"/>
                <a:ea typeface="新細明體"/>
              </a:rPr>
              <a:t>(1) 1 – 2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5038560" y="262260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65 Medium"/>
                <a:ea typeface="新細明體"/>
              </a:rPr>
              <a:t>(2) 1 – 2 *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Precedence / Associ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4320" y="2565360"/>
            <a:ext cx="8775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: expr ‘+’ 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r ‘-’ 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{ $$ = $1 -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r ‘*’ 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r ‘/’ expr { if($3==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yyerror(“divide 0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$$ = $1 / $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‘-’ expr %prec UMINUS {$$ = -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93720" y="1163520"/>
            <a:ext cx="3406680" cy="1268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+' '-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*' '/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%noassoc UMI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opic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iler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ning &amp; pa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practical viewpoint: LEX and YA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ediate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tion: techniques and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/peephole optim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and loop optim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ing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flow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as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Precedence / Associ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7840" y="1926720"/>
            <a:ext cx="824832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right ‘=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&lt;' '&gt;' NE LE 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+' '-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*' '/'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6764400" y="1927080"/>
            <a:ext cx="665280" cy="2448000"/>
          </a:xfrm>
          <a:prstGeom prst="downArrow">
            <a:avLst>
              <a:gd name="adj1" fmla="val 50000"/>
              <a:gd name="adj2" fmla="val 9199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5517360" y="43750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highest prece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ig trick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YACC &amp; LEX to work toge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EX &amp; YACC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1243440" y="2556000"/>
            <a:ext cx="6651720" cy="2332080"/>
            <a:chOff x="1243440" y="2556000"/>
            <a:chExt cx="6651720" cy="2332080"/>
          </a:xfrm>
        </p:grpSpPr>
        <p:sp>
          <p:nvSpPr>
            <p:cNvPr id="254" name="Rectangle 4"/>
            <p:cNvSpPr/>
            <p:nvPr/>
          </p:nvSpPr>
          <p:spPr>
            <a:xfrm>
              <a:off x="4025880" y="2556000"/>
              <a:ext cx="1744920" cy="2332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cc/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>
              <a:off x="3060720" y="2959200"/>
              <a:ext cx="965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>
              <a:off x="3060720" y="4407120"/>
              <a:ext cx="965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5770800" y="3667320"/>
              <a:ext cx="952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1243440" y="27306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lex.yy.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1335600" y="41896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y.tab.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10"/>
            <p:cNvSpPr/>
            <p:nvPr/>
          </p:nvSpPr>
          <p:spPr>
            <a:xfrm>
              <a:off x="6800040" y="34387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a.ou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uilding Examp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160" y="1533240"/>
            <a:ext cx="86058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se you have a lex file called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canner.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a yacc file called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ecl.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want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r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s to build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lex scanner.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d decl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gcc -c lex.yy.c y.tab.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gcc -o parser lex.yy.o y.tab.o -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scanner should include in the definitions section: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include "y.tab.h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7"/>
          <p:cNvGrpSpPr/>
          <p:nvPr/>
        </p:nvGrpSpPr>
        <p:grpSpPr>
          <a:xfrm>
            <a:off x="2192400" y="3481560"/>
            <a:ext cx="4093560" cy="3071160"/>
            <a:chOff x="2192400" y="3481560"/>
            <a:chExt cx="4093560" cy="3071160"/>
          </a:xfrm>
        </p:grpSpPr>
        <p:sp>
          <p:nvSpPr>
            <p:cNvPr id="264" name="Oval 4"/>
            <p:cNvSpPr/>
            <p:nvPr/>
          </p:nvSpPr>
          <p:spPr>
            <a:xfrm>
              <a:off x="2955240" y="5862240"/>
              <a:ext cx="3330720" cy="690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5"/>
            <p:cNvSpPr/>
            <p:nvPr/>
          </p:nvSpPr>
          <p:spPr>
            <a:xfrm>
              <a:off x="2192400" y="3481560"/>
              <a:ext cx="762840" cy="690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6" name="AutoShape 6"/>
            <p:cNvCxnSpPr>
              <a:stCxn id="264" idx="1"/>
              <a:endCxn id="265" idx="3"/>
            </p:cNvCxnSpPr>
            <p:nvPr/>
          </p:nvCxnSpPr>
          <p:spPr>
            <a:xfrm flipV="1" rot="16200000">
              <a:off x="1947600" y="4448160"/>
              <a:ext cx="1851120" cy="1137600"/>
            </a:xfrm>
            <a:prstGeom prst="curvedConnector5">
              <a:avLst>
                <a:gd name="adj1" fmla="val 48842"/>
                <a:gd name="adj2" fmla="val 49984"/>
                <a:gd name="adj3" fmla="val 48842"/>
              </a:avLst>
            </a:prstGeom>
            <a:ln w="3816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YACC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s may be recur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s may be ambig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bottom-up Shift/Reduce pa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a t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 onto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t be reduced (How do we k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es: Reduce using a r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o: Get another t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CC cannot look ahead more than one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407880" y="2060640"/>
            <a:ext cx="3765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4422960" y="419580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a = 7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4572000" y="227664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0880" y="2060640"/>
            <a:ext cx="3927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636800" y="46483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= 7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572000" y="272880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572720" y="2060640"/>
            <a:ext cx="127800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651560" y="477216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7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4572000" y="281952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 ‘=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4572720" y="2060640"/>
            <a:ext cx="127800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592160" y="464832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4572000" y="272880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 ‘=‘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572720" y="21337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488880" y="2060640"/>
            <a:ext cx="367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4458600" y="479124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572000" y="287172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4516200" y="22766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opic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scheduling: improving I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-level optim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ations for cache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488880" y="2060640"/>
            <a:ext cx="367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4458600" y="464832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4572000" y="272880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4516200" y="213372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98600" y="2060640"/>
            <a:ext cx="36687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539960" y="471960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4638600" y="280044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639320" y="206064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4421160" y="450360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4594320" y="258444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95040" y="198900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4568400" y="457524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638600" y="265572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4590360" y="206064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488880" y="2060640"/>
            <a:ext cx="367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516200" y="46483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4572000" y="2728800"/>
            <a:ext cx="410364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4523760" y="21337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415800" y="2060640"/>
            <a:ext cx="3751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4383000" y="47005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0" y="278136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4572360" y="218592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77720" y="2060640"/>
            <a:ext cx="3689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4590360" y="47912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638600" y="2871720"/>
            <a:ext cx="386712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590360" y="227664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457200" y="2060640"/>
            <a:ext cx="3710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523760" y="4719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4572000" y="280044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4523760" y="220500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77720" y="2060640"/>
            <a:ext cx="3689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4457160" y="4719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505400" y="280044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4450320" y="220500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404640" y="2060640"/>
            <a:ext cx="3762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390200" y="4719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572000" y="280044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360" y="220500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ilers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general organiz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4523760" y="47005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4572000" y="278136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4523760" y="21859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4516200" y="46483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4572000" y="272880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4523760" y="21337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4649760" y="45561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4572000" y="263700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4572360" y="20606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57200" y="2060640"/>
            <a:ext cx="3710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516200" y="46274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4572000" y="270828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4516200" y="21128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2060640"/>
            <a:ext cx="3699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4516200" y="45561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4572000" y="263700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4516200" y="204156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4582800" y="46274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4638600" y="270828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4582800" y="21128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498600" y="2060640"/>
            <a:ext cx="36687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516200" y="47196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4572000" y="280044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4530960" y="2205000"/>
            <a:ext cx="10951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DON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63160" y="428400"/>
            <a:ext cx="86058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IF-ELSE Ambiguit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7840" y="1409760"/>
            <a:ext cx="82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Consider following ru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1600200" y="1982880"/>
            <a:ext cx="4567320" cy="13064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572760" y="357984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Following stat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045600" y="357984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expr IF expr stm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LSE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68400" y="4127400"/>
            <a:ext cx="43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ossible deriv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24800" y="4965840"/>
            <a:ext cx="37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IF expr stmt . ELSE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IF expr stmt ELSE .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F expr stmt ELSE stm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4988880" y="4965840"/>
            <a:ext cx="379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F expr stm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 ELSE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 . ELSE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 ELSE . stm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 ELSE stmt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428760" y="4965840"/>
            <a:ext cx="3787560" cy="131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4992840" y="4965840"/>
            <a:ext cx="3787560" cy="131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44680" y="591840"/>
            <a:ext cx="8107200" cy="5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IF-ELSE Ambiguit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7840" y="1533600"/>
            <a:ext cx="82483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It is a shift/reduce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YACC will always do shift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olution 1 : re-write 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1285920" y="3179880"/>
          <a:ext cx="6705720" cy="32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179880"/>
                    <a:ext cx="67057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525240" y="1752480"/>
            <a:ext cx="800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olution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915840" y="2421000"/>
            <a:ext cx="6139080" cy="26478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263160" y="428760"/>
            <a:ext cx="8605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IF-ELSE Ambiguit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5340240" y="2629080"/>
            <a:ext cx="3189240" cy="1268280"/>
          </a:xfrm>
          <a:prstGeom prst="wedgeRectCallout">
            <a:avLst>
              <a:gd name="adj1" fmla="val -45319"/>
              <a:gd name="adj2" fmla="val 6589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rule has the same precedence as token IF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4578480" y="4390920"/>
            <a:ext cx="1625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ilers: organiz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7840" y="3616200"/>
            <a:ext cx="82483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 on source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xical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antic analysis (e.g., type chec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5946840" y="1725480"/>
            <a:ext cx="1436760" cy="747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151680" y="1852560"/>
            <a:ext cx="1436400" cy="747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695760" y="1725480"/>
            <a:ext cx="1434960" cy="74772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859200" y="1852560"/>
            <a:ext cx="1434960" cy="747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1243080" y="1725480"/>
            <a:ext cx="1434960" cy="74772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433520" y="1852560"/>
            <a:ext cx="1434960" cy="747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614600" y="1960560"/>
            <a:ext cx="1436400" cy="747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25880" y="1960560"/>
            <a:ext cx="143496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318360" y="1960560"/>
            <a:ext cx="1434960" cy="74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520" y="2016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756560" y="1909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30528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54594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447840" y="3003480"/>
            <a:ext cx="794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4080" y="385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/Reduce Conflict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hift/reduce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occurs when a grammar is written in such a way that a decision between shifting and reducing can not be m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e.g.: IF-ELSE ambig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To resolve this conflict,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新細明體"/>
              </a:rPr>
              <a:t>YACC will choose to sh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63160" y="528480"/>
            <a:ext cx="86058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Reduce/Reduce Conflicts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Reduce/Reduce Confli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start : expr |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expr : CONSTA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stmt : CONSTA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新細明體"/>
              </a:rPr>
              <a:t>YACC (Bison) resolves the conflict by reducing using the rule that occurs earlier in the grammar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NOT GOOD!!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o, modify grammar to eliminat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Error Messag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47840" y="1533600"/>
            <a:ext cx="82483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Bad error mess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Syntax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新細明體"/>
              </a:rPr>
              <a:t>Compiler needs to give programmer a good ad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It is better to track the line number in L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Object 4"/>
          <p:cNvGraphicFramePr/>
          <p:nvPr/>
        </p:nvGraphicFramePr>
        <p:xfrm>
          <a:off x="1332000" y="3933720"/>
          <a:ext cx="670860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933720"/>
                    <a:ext cx="670860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Recursive Grammar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7840" y="1600200"/>
            <a:ext cx="8248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Lef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Righ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R parser prefers lef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L parser prefers righ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Object 4"/>
          <p:cNvGraphicFramePr/>
          <p:nvPr/>
        </p:nvGraphicFramePr>
        <p:xfrm>
          <a:off x="3473280" y="1376280"/>
          <a:ext cx="4132440" cy="12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3280" y="1376280"/>
                    <a:ext cx="413244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5"/>
          <p:cNvGraphicFramePr/>
          <p:nvPr/>
        </p:nvGraphicFramePr>
        <p:xfrm>
          <a:off x="3473280" y="3124080"/>
          <a:ext cx="413244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3280" y="3124080"/>
                    <a:ext cx="41324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YACC Examp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n from LEX &amp; YAC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 = 4 +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=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 =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 = a +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c = 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essure = (78 + 34) * 1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63160" y="18108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Grammar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47840" y="1239840"/>
            <a:ext cx="82483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ession ::= expression '+' term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ession '-' term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      ::= term '*' factor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'/' factor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    ::= '(' expression ')'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-' factor 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UMBER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A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parser.h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ader for calculato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define NSYMS 2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maximum numb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f symbols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ar *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ouble val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symtab[NSYMS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ymlook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343584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7029000" y="4827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7676280" y="4827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6719760" y="4827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7029000" y="8254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7676280" y="8254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6681600" y="825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7029000" y="11685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7676280" y="11685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6681600" y="11685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7029000" y="15112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7676280" y="15112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6681600" y="1511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7029000" y="18543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7676280" y="18543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6681600" y="1854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7029000" y="21970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7676280" y="21970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1"/>
          <p:cNvSpPr/>
          <p:nvPr/>
        </p:nvSpPr>
        <p:spPr>
          <a:xfrm>
            <a:off x="6681600" y="2197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2"/>
          <p:cNvSpPr/>
          <p:nvPr/>
        </p:nvSpPr>
        <p:spPr>
          <a:xfrm>
            <a:off x="7029000" y="25401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7676280" y="25401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681600" y="25401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5"/>
          <p:cNvSpPr/>
          <p:nvPr/>
        </p:nvSpPr>
        <p:spPr>
          <a:xfrm>
            <a:off x="7029000" y="28828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26"/>
          <p:cNvSpPr/>
          <p:nvPr/>
        </p:nvSpPr>
        <p:spPr>
          <a:xfrm>
            <a:off x="7676280" y="28828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7"/>
          <p:cNvSpPr/>
          <p:nvPr/>
        </p:nvSpPr>
        <p:spPr>
          <a:xfrm>
            <a:off x="6681600" y="2882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8"/>
          <p:cNvSpPr/>
          <p:nvPr/>
        </p:nvSpPr>
        <p:spPr>
          <a:xfrm>
            <a:off x="7029000" y="32259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9"/>
          <p:cNvSpPr/>
          <p:nvPr/>
        </p:nvSpPr>
        <p:spPr>
          <a:xfrm>
            <a:off x="7676280" y="32259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30"/>
          <p:cNvSpPr/>
          <p:nvPr/>
        </p:nvSpPr>
        <p:spPr>
          <a:xfrm>
            <a:off x="6681600" y="32259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1"/>
          <p:cNvSpPr/>
          <p:nvPr/>
        </p:nvSpPr>
        <p:spPr>
          <a:xfrm>
            <a:off x="7029000" y="35686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2"/>
          <p:cNvSpPr/>
          <p:nvPr/>
        </p:nvSpPr>
        <p:spPr>
          <a:xfrm>
            <a:off x="7676280" y="35686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3"/>
          <p:cNvSpPr/>
          <p:nvPr/>
        </p:nvSpPr>
        <p:spPr>
          <a:xfrm>
            <a:off x="6681600" y="3568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34"/>
          <p:cNvSpPr/>
          <p:nvPr/>
        </p:nvSpPr>
        <p:spPr>
          <a:xfrm>
            <a:off x="7029000" y="39117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7676280" y="39117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36"/>
          <p:cNvSpPr/>
          <p:nvPr/>
        </p:nvSpPr>
        <p:spPr>
          <a:xfrm>
            <a:off x="6575040" y="3911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37"/>
          <p:cNvSpPr/>
          <p:nvPr/>
        </p:nvSpPr>
        <p:spPr>
          <a:xfrm>
            <a:off x="7029000" y="42544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8"/>
          <p:cNvSpPr/>
          <p:nvPr/>
        </p:nvSpPr>
        <p:spPr>
          <a:xfrm>
            <a:off x="7676280" y="42544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9"/>
          <p:cNvSpPr/>
          <p:nvPr/>
        </p:nvSpPr>
        <p:spPr>
          <a:xfrm>
            <a:off x="6575040" y="42544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40"/>
          <p:cNvSpPr/>
          <p:nvPr/>
        </p:nvSpPr>
        <p:spPr>
          <a:xfrm>
            <a:off x="7029000" y="45975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41"/>
          <p:cNvSpPr/>
          <p:nvPr/>
        </p:nvSpPr>
        <p:spPr>
          <a:xfrm>
            <a:off x="7676280" y="45975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42"/>
          <p:cNvSpPr/>
          <p:nvPr/>
        </p:nvSpPr>
        <p:spPr>
          <a:xfrm>
            <a:off x="6575040" y="4597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3"/>
          <p:cNvSpPr/>
          <p:nvPr/>
        </p:nvSpPr>
        <p:spPr>
          <a:xfrm>
            <a:off x="7029000" y="49402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44"/>
          <p:cNvSpPr/>
          <p:nvPr/>
        </p:nvSpPr>
        <p:spPr>
          <a:xfrm>
            <a:off x="7676280" y="49402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45"/>
          <p:cNvSpPr/>
          <p:nvPr/>
        </p:nvSpPr>
        <p:spPr>
          <a:xfrm>
            <a:off x="6575040" y="4940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46"/>
          <p:cNvSpPr/>
          <p:nvPr/>
        </p:nvSpPr>
        <p:spPr>
          <a:xfrm>
            <a:off x="7029000" y="52833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7"/>
          <p:cNvSpPr/>
          <p:nvPr/>
        </p:nvSpPr>
        <p:spPr>
          <a:xfrm>
            <a:off x="7676280" y="52833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8"/>
          <p:cNvSpPr/>
          <p:nvPr/>
        </p:nvSpPr>
        <p:spPr>
          <a:xfrm>
            <a:off x="6575040" y="52833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49"/>
          <p:cNvGrpSpPr/>
          <p:nvPr/>
        </p:nvGrpSpPr>
        <p:grpSpPr>
          <a:xfrm>
            <a:off x="7656480" y="5851440"/>
            <a:ext cx="112680" cy="622080"/>
            <a:chOff x="7656480" y="5851440"/>
            <a:chExt cx="112680" cy="622080"/>
          </a:xfrm>
        </p:grpSpPr>
        <p:sp>
          <p:nvSpPr>
            <p:cNvPr id="464" name="Oval 50"/>
            <p:cNvSpPr/>
            <p:nvPr/>
          </p:nvSpPr>
          <p:spPr>
            <a:xfrm>
              <a:off x="7656480" y="5851440"/>
              <a:ext cx="112680" cy="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51"/>
            <p:cNvSpPr/>
            <p:nvPr/>
          </p:nvSpPr>
          <p:spPr>
            <a:xfrm>
              <a:off x="7656480" y="6122160"/>
              <a:ext cx="112680" cy="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52"/>
            <p:cNvSpPr/>
            <p:nvPr/>
          </p:nvSpPr>
          <p:spPr>
            <a:xfrm>
              <a:off x="7656480" y="6393960"/>
              <a:ext cx="112680" cy="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parser.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"parser.h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&lt;string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union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ouble dv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ym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oken &lt;symp&gt;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oken &lt;dval&gt;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ype &lt;dval&gt; ex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ype &lt;dval&gt; 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ype &lt;dval&gt; fa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ompilers: organization (cont’d)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7840" y="3616200"/>
            <a:ext cx="82483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part of 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optimization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 to IR tran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very computational intensive 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946840" y="1725480"/>
            <a:ext cx="1436760" cy="747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151680" y="1852560"/>
            <a:ext cx="1436400" cy="747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695760" y="1725480"/>
            <a:ext cx="1434960" cy="74772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59200" y="1852560"/>
            <a:ext cx="1434960" cy="747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1243080" y="1725480"/>
            <a:ext cx="1434960" cy="74772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1433520" y="1852560"/>
            <a:ext cx="1434960" cy="747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1614600" y="1960560"/>
            <a:ext cx="1436400" cy="747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025880" y="1960560"/>
            <a:ext cx="143496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6318360" y="1960560"/>
            <a:ext cx="1434960" cy="74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520" y="2016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7756560" y="1909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0528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54594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447840" y="3003480"/>
            <a:ext cx="794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208080" y="601200"/>
            <a:ext cx="868176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_list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 '\n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_list statement '\n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ME '=' express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 $1-&gt;value =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xpress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 printf("= %g\n", $1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xpression: expression '+' term { $$ = $1 +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expression '-' term { $$ = $1 -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208080" y="487440"/>
            <a:ext cx="868176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rm:  term '*' factor { $$ = $1 *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 term '/' factor { if($3 == 0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r("divide by zero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$ = $1 / $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fa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actor: '(' expression ')' { $$ = $2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'-' factor         { $$ = -$2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NAME               { $$ = $1-&gt;value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look up a symbol table entry, add if not present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ymlook(char *s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ar *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(sp = symtab; sp &lt; &amp;symtab[NSYMS]; sp++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is it already here?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(sp-&gt;name &amp;&amp; !strcmp(sp-&gt;name, s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s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(!sp-&gt;name) { /* is it free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p-&gt;name = strdup(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s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otherwise continue to next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r("Too many symbols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xit(1)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cannot continue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/* symlook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r(char *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intf( "yyerror: %s\n", 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ypedef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uble d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ruct symtab *sy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 YYSTYP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tern YYSTYPE yyl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fine NAME 2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fine NUMBER 2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7733520" y="616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.tab.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alclexer.l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include "y.tab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include "parser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include &lt;math.h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7446240" y="61610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clexer.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[0-9]+|([0-9]*\.[0-9]+)([eE][-+]?[0-9]+)?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lval.dval = atof(yytext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NUMB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 \t]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/* ignore white space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A-Za-z][A-Za-z0-9]*  { /* return symbol pointer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lval.symp = symlook(yytex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NAM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$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 return 0; /* end of input */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\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.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yytext[0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7446240" y="61610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clexer.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akefi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16320" y="457200"/>
            <a:ext cx="278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akefi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EX = l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ACC = ya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C = g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lcu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.tab.o lex.yy.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CC) -o calcu y.tab.o lex.yy.o -ly -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.tab.c y.tab.h: parser.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YACC)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d parser.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.tab.o: y.tab.c parser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CC) -c y.tab.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ex.yy.o: y.tab.h lex.yy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CC) -c lex.yy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ex.yy.c: calclexer.l parser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LEX) calclexer.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6487920" y="4722840"/>
            <a:ext cx="2314440" cy="177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le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m *.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m *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m cal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ompilers: organization (cont’d)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7840" y="3616200"/>
            <a:ext cx="82483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 on target proc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phole optim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946840" y="1725480"/>
            <a:ext cx="1436760" cy="747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51680" y="1852560"/>
            <a:ext cx="1436400" cy="747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695760" y="1725480"/>
            <a:ext cx="1434960" cy="74772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59200" y="1852560"/>
            <a:ext cx="1434960" cy="747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243080" y="1725480"/>
            <a:ext cx="1434960" cy="74772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433520" y="1852560"/>
            <a:ext cx="1434960" cy="747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614600" y="1960560"/>
            <a:ext cx="1436400" cy="747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4025880" y="1960560"/>
            <a:ext cx="143496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318360" y="1960560"/>
            <a:ext cx="1434960" cy="74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520" y="2016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7756560" y="1909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0528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54594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447840" y="3003480"/>
            <a:ext cx="794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6040" y="385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YACC Declaration Summar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82480" y="141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start'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   Specify the grammar's start symb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union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Declare the collection of data types that semantic values may h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token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eclare a terminal symbol (token type name) with no precedence or associativity spec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type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Declare the type of semantic values for a nonterminal symb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63160" y="528480"/>
            <a:ext cx="86058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YACC Declaration Summar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right‘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eclare a terminal symbol (token type name) that is right-associ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left‘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Declare a terminal symbol (token type name) that is left-associ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nonassoc‘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eclare a terminal symbol (token type name) that is nonassociative  (using it in a way that would be associative is a syntax error, e.g.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x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. 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. z is syntax err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 borrowed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y D. Pimen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21:20:36Z</dcterms:created>
  <dc:creator>Annie Benet</dc:creator>
  <dc:description/>
  <dc:language>en-US</dc:language>
  <cp:lastModifiedBy>Microsoft account</cp:lastModifiedBy>
  <dcterms:modified xsi:type="dcterms:W3CDTF">2022-08-23T07:22:17Z</dcterms:modified>
  <cp:revision>94</cp:revision>
  <dc:subject/>
  <dc:title>Introduction to Compiler Design</dc:title>
</cp:coreProperties>
</file>